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5A5-4403-4BAE-B634-33704237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0CE-766B-47F9-9E1D-AA0D84E4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FA50B-AE60-4721-AACD-D4377AFC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FFC04-D703-442E-A33E-9E023A0D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BEE4E-A143-4190-8C36-1CABCD8F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7C2C0-11C9-4B33-B8C1-17BF07CA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B0CBC-A037-42B5-ABB0-E6A4D0D3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56FA9-9883-4CBF-B6EE-29C14D9D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D9AD1-F2DD-4896-990C-45F2A425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EE878-6345-48BC-8BCD-2B202C18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9322E-8282-43A6-9AC9-4F4659BD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82193-DB61-44D2-940C-DDA18923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022-D0FD-4328-8FC8-0A4FBBD1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21694-99F2-47C9-8003-7B810696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CFCEA-A38F-4F07-8D62-B9ED60F7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8D8B0-D0AB-4DF1-B1BE-F9B76372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7DEE1-938A-4628-8384-E97AA666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A8082-033A-4FF8-84CB-8619CFB6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7E484-9218-4111-BC1C-67F1D4CF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ED840-997C-49AC-B36B-12E4F305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1DF2B-FB25-42CA-9F3E-F3359477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DAC0F-AE06-4D75-AC79-0660E049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47FCE-1F9A-425C-895F-CCAC02E7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C53-B1E7-4B97-AA8D-E766EFD9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FF2E8-6C0F-4E21-8F1F-3979E0E7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4DC18-5941-4199-B37B-564D797B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6B711-7BB6-480D-96A0-3E32D397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4C996-C302-41FC-BA2D-9FADD9A5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CA33A-3F37-45E9-AD06-A9ED3AF1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04335-6BB0-4651-8FE4-548CDC3B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EB9E1-B4EF-4D52-BF1B-C801E3CF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1E0E2-5BAA-476B-928A-E1E128C1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4EFE1-2B9A-469E-B769-32B1D118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85DAB-7692-4BCA-9D3F-BF34B00D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A21B-4B27-4DC6-AD57-CF42AC30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924AF-D15C-4C89-BF17-7F6E3953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649A9-A470-48D6-A1D4-C79FBF1A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B264F-0CA6-4CDE-83EA-5FB65362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43BD4-81F6-4FD0-AF03-343092B5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BEEEE-8B5F-409A-87EE-4F0AE9A2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9629F-19A1-4FDF-A0E4-32770D9A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46406-4891-45FD-892E-E68F31ED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A2DBA-678A-4A37-BEBA-DFEE9DB4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B0C7E-651C-4766-88AC-4D96A4BE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9A582-022C-4263-9C84-724FE4DE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DB91-CF0F-41EA-A386-0EAD0A5C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D4851-0AC2-4552-A297-35770D8C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80349-AEDA-4CE3-8087-E9CCF115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EB7CF-202F-439A-9E8A-23155F14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171C7-9495-4381-9A11-B8320362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25D49-F571-4FC1-82D7-0CD07E22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38B4C-9E7E-49D8-924A-F058779A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9085E-0FF4-41A3-8E25-A2CFF6DB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3F856-7520-40DF-9980-990C21DD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6D3F3-DEDD-4450-8AC9-734715DD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093BB-6B41-4D38-908A-C592B709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52C4-0883-4823-B525-29327BC9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5B9C3-C3F7-4734-A2BC-2A68E85E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8B3BD-B55A-4FDC-B792-F2338D49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56CAD-5FAA-4A35-B153-17374145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A3DC5-434A-49F0-863F-5E7B607C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E6DA8-B1A8-4AC5-BE41-96377C0F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97C5C-93A7-459A-B8E9-1152FAFE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D9744-182B-4238-B1BC-FCC5170E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F8C56-A7BC-46F0-86DD-E6D3707F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1563B-CB3F-4321-B86C-B23A87D4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85CE0-211A-498D-9DA2-AECC809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F04B-4D7C-4D79-90DA-D966DA67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95E1F-A713-4C0E-AE07-ACFB525A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37D76-CB3F-4065-84AC-85E0AF8A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12BA3-2EB2-44AC-A33F-A134EEF8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A2865-21C1-489F-BFCE-01C9830B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88BDC-0303-4D27-BDCD-9356213C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B4C93-A769-4F83-8606-6118C4B0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315EE-FFC0-4D66-AE09-20CB37F1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9D826-177F-42DA-B22C-D59B72D5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93B82-C31B-43C9-ABA3-C742E973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7C512-A42B-4135-9692-010971FD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8127-6FE5-47BA-8EA0-DDBA11E7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D29E9-48AC-4B4C-AAFF-D91922D6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362C2-AF93-4BFE-89E5-390BBA3D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B6ABD-FD5D-4071-BB89-9B353F1C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D07C2-FCC6-4D9D-B270-71AB4140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EC79B-B34B-44BF-B616-2ADB5A17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687B4-310B-4F1C-B428-D3B95C0A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42723-488A-4A6C-8CBA-E55ABBAB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52C02-F7AB-47D2-B41D-838B422B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1BC71-7404-418A-B335-A76F3118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92438-F793-4F8F-A2E7-9F6C48A7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C920-FE04-4E64-ADA6-EFD2AD31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5C84E-9284-4176-8C7A-C8F44637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F7E1B-8D0F-4734-A3B8-A5F306C6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B9F266-B845-491E-AA09-3F55FE4F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EA0048-6328-4DE8-B3E8-FA09968D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4C858-7E03-453F-9307-51DCF192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9FFD1-70F6-45C8-BD23-65244128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E3A726-FB6C-4F91-BD9F-20333E12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9BB64-04A4-4C26-850F-A172DFFF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91372-0934-4C18-B8D7-4C095044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92A22D-4AFC-49EA-A85D-07536C6B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7056-B8FD-44BF-9036-B23E206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D9CFD4-07A9-40A1-BDAE-89BA4B3D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EAC7E1-68ED-44C7-AFE5-7611C6F7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E20A0-2E31-4868-9340-5E893B17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30927-ED34-420D-8F3D-6AE4606B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26D5F5-02C9-4F0A-9F98-213AB95B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FF3764-A73A-43FE-9182-A6B07CF4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4B118-FAEE-4E23-AB1A-00247D89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A90AF-0D1F-4E76-BDCF-458CDC6B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002F2E-3C6F-4FE8-96B8-B89B77EC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3677D-E112-4397-85BE-BA499360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AAE-949F-4F93-A0F9-2D63F5AD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74C6-3387-4A35-A2C1-2A37F02D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43089-4429-4C36-B85A-C7BE0A3E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66DBB-EF08-4865-90C8-40C81D5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318F9-C097-4AFE-A2C3-E09EBF7F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A2E7D-F487-4F9F-9FA9-1F4140BE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1F9FA-E205-44E7-8430-48B3CB11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4C263C-738D-456B-B25D-C3CBB904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130EA-AB04-4199-9D45-8CBE8D1B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20E13C-CC45-4369-BB1D-388BA3E7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EA9EC-728E-4347-B542-E64CABE6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E9BBE-E219-4091-B8B3-69FB0D16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F7C3-0E61-4D52-8154-5053192A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50E3CE-A3F5-477C-B0DB-6A539F5D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D18178-F527-4151-9252-610160BC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DE0DF0-1E8D-4BD4-833B-6CD11D68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22EC9-6B50-42F3-AA01-CFA4B130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3AEF75-02B9-46BC-880F-9F8C25A7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71DCB7-BE16-41D7-91B9-0EE60D28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BFC84F-890C-4BA2-A1BF-4F2F6226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AF4011-1301-4220-A11C-5A09C15D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CA609B-D48A-4DD7-A5B6-2A8EC41F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CF39F-EB80-47C4-ACCA-7209C668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2A6C-0B13-44DC-B32A-CB3CFF06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314C7-8460-44E8-80C5-D2C6D869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3129FF-AC03-4229-8B42-17EAE0C9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EAA426-EB4A-4417-89DD-0DD6FF42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87A0C-9143-485A-9E9F-0521EA7D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656F7-FC58-4419-9A5A-DE5C2A78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1EF682-B127-4244-9752-AB565C13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5808C7-EE63-4694-BABA-4282E030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75127-0849-413A-9D4A-F1244534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C60157-9802-490D-8677-AA4E8B33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F8BF0-8A6E-4E3E-B86B-4CB35C67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6A78-E9CA-4EA3-9232-71D95386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DA511-A530-4E7D-B62D-A287B5E9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BB046F-7F2D-4EE4-95C4-74767863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91DA4-983B-4F9F-9880-D45C41D7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CBF482-C3D8-409A-8FC4-8987D540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FF8CA-8D63-4B07-9327-90AF42E8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1B047-ACB4-4764-8653-5D6600BC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41EEA9-B503-41A4-B614-33BD9370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C0008-4C16-4E43-A73C-27823F84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E08EE2-DD68-435D-8B85-AB72B522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9152C-C05D-4AEA-A654-10CED303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9344-222E-4331-9AF1-82490032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09A7F-6BB3-4FCF-B547-E0FC33B2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1918E5-F12A-4A93-B593-7B7AB9BB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9A7F38-2877-4250-AF48-F0A091EE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B283F8-E255-493A-85F0-5D844C9A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CF18D3-0A3D-490F-BE6F-DCF9A751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ACDE65-4DFE-44DA-AE64-D6455880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7F5073-E1AF-4D7E-8736-F265D56D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9A9FED-7B4A-434A-A39F-51FF03B5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A2430-4E8F-4C48-931C-2C676278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763499-03F0-4E4D-A38E-CBE05D42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5310D-7F0C-435F-970E-A0CB4EF9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000851-B166-49C5-9B1C-796D1C38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110D27-9E78-4D02-BB74-07AF01CD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A3BB5F-129A-4C5D-8F07-A95B9167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DB6738-B07A-4689-B900-BA6ADCBA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F09E77-72D4-4916-9DB1-94CC626C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CB9561-C2CC-480B-9EEF-2C6E84DB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973421-7C45-49C1-8B35-9FD8A345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00D7F7-100E-43AE-A961-39DD4DAF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FA1187-B8D1-4D9F-BE2C-A8C6D168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E7C311-6DB9-46AF-A560-941808D4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B41CA-1AE3-4347-8B4C-0C511EEC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4CCE77-9B69-404A-B556-0FE1B83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83BD2C-7BFD-41FC-9116-96B26B98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39AC7E-D65A-4C8C-A48A-7B2A6CDE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02B906-C1B0-44AE-A5A7-E1147717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F46CDC-C4C1-47A1-B119-1E7FA5EE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8A7E3E-96A9-412D-A765-D907E392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C72169-BEBB-4BAE-8A92-F91B0306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305DE0-F7DD-4B1C-A97F-9B52087D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7C9223-CAD3-47D1-9A63-B4FEA51A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025DE3-25B4-4E0C-893B-FD5D8260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78B83-7448-4516-9CE8-8742D17E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3517F9-29EA-46BB-8D45-EEC8B3C2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64AF7D-510A-4A13-8D3B-2D73A418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152DD2-644F-4565-8591-D08FD445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7ADA47-D81D-4661-90D4-562B7A53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998617-46D3-43ED-8F2C-1EB6C755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C61D7B-040E-4367-9699-836E7E94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E1BCE9-0502-4242-A169-0739F24F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C8E868-00CC-460F-BB98-DEE3A109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586CAD-EA13-45C7-A710-126038F3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299EE2-D50C-4C14-91BB-B9793FBF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E35E-5AE2-4FF1-9007-9E903079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F3A473-B347-4763-A5C7-D317F059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BBF93A-066F-4176-A25A-758ED1DF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96F236-D192-41DA-B720-F7BD38FC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80E406-23CE-4476-A1BD-D2763ED6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B88B3C-EE5E-47EA-B931-1A33505B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E09EA9-2AC4-485A-B6E3-EE03006F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B54206-3AF9-4BDF-85B5-D042F67F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1BE058-C0D1-4444-9B0F-94D0E561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BB68C7-E2ED-4801-838B-BDFB70D2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997C91-0718-415E-B3E1-D4B2FF88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02AD-0F4B-4290-86D2-43DD4867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BD40F4-54FB-438C-AA53-F2A34E1C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1D9EF1-899B-4E24-A605-0D006DCB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77FF37-D096-4107-B0D0-AA5F5711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44137D-384B-4CAC-883E-48DC5CEB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D2DD21-DBDD-4483-A14D-1C827E5A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CD8C37-7175-4792-9D5C-238D2998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A5B817-637E-434D-B898-8E7BE0DB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45AE03-41B4-434E-AF9E-1E5029E3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D90E94-83F5-49C3-A605-5520E4E4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B7111D-9728-4F15-B625-22997614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839-3C76-424F-AEEB-AD375C3A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5CD8-1FD8-47B6-8300-D310713A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6D4042-3907-4FFE-BEF4-2677036F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89863B-364D-44B2-ABCA-B1EE1DD3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6A9866-A631-4CA1-861E-F87AA3C4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B53F54-11BF-447A-99C4-F914904F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5C0D00-261A-4086-B587-D7FD3023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1F0637-8C4E-47DA-BF4D-5AA94C37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93A6E5-F310-42B8-B0E6-AC030D51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40A59B-D05C-4A70-B710-F8A21123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A3C116-2AFF-4A7B-8893-E2C33B37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B038C4-888A-4C6C-B545-CDFC7A3E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7591-A599-42D3-B0A4-2ACD4A0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0F0565-9C87-49B9-A4A0-4B3A20DC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E26B5C-9549-4976-8C3D-B054E526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B03E4B-9A92-4D85-9C17-0ECCE466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172ADC-99A5-4ED5-860C-2DDF79CE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40B14B-9FE1-4F12-9942-A39A385E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00CF24-4FD5-480A-9402-FD39D9DF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029329-16BA-4AF3-B2D6-21FD79A5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543EE3-FE39-4F7F-B0CF-9C95836F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3662C4-4110-4421-A180-8BBC3BC2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1D1B08-EA4F-40D5-B392-DC09BBB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893A-D348-4D88-B73F-E69A495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B2185F-E334-4259-B6E8-D42108E1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85A26B-605B-4546-8941-53CC495E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7D531E-52B0-4C27-BF12-AE6F7609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6D3009-851E-401F-894C-D63984CF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70C1CA-4E93-4CB6-ADF6-A3D55218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EC63D0-4418-4326-8B42-BD1E5338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83FCB8-CB06-4B78-8CD2-6A81A641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4B22C1-FE21-47F5-8C7B-B39C9F9E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9D0EBF-0EFC-404E-B723-5B429E33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A95517-7E63-4DCB-81E4-31BFC23D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4A77-5DBC-4C0C-A7EA-C2D22034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18E7B5-8F52-4275-A29A-003EA25E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D8C5CF-409F-44BC-A890-E7E3B5E9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02753D-56BE-4C91-9323-719989A5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5AA77D-6E4F-49E3-968E-E729D7CB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71E439-C61E-45A7-8304-69DE7489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C77D81-8262-4A3B-A725-52F65841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E320FD-22C4-4127-8143-3CEA3B14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A0FB07-D8F9-44CF-B113-9275A850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0576CA-5A51-49DD-9025-D20E9D36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A8254A-B755-4BC7-86B3-707CBBA0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64D2-1137-4B30-9CFA-6CA28D9C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A34F0A-8CB7-4D5D-8EFF-3B5735EE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11DAB2-BDDA-471D-9B63-7A6C517A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71CF10-3C18-4E0A-8334-790897F0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CAE3C6-F060-4D66-ADE8-AB9E6A93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ED45CB-30F2-44AB-ACA0-7ED04D31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571CE7-5ABD-4736-8243-2068E164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D280CB-FBF5-4B02-8D1C-3A514DD5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30824B-F39E-476B-A0DD-0FE545FE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F2354D-3B2C-4877-8667-164CCB13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216BA3-058B-4ABB-A8D3-EC6320BA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46C1-BDD3-4A53-9FA8-75726D47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50AC5B-AC31-4512-AFB6-31E20E47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65562D-F211-4F07-A920-8F9A005B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EBB5C1-755F-4BD8-9529-7A8AD361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01AF09-E474-44EE-A7DA-395DC02B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3A126E-2A98-4A5F-9204-B4EE4301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DD30A8-1E80-4B6D-B387-60E68BD6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298BCE-0CE0-4548-ABDA-CDFE5EC5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467143-2819-4C32-AD0A-0F71E69E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AE2601-8E28-4D2F-902C-B1DBEF47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6365C3-67F4-439B-B013-33E1EF3B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9022F-B03F-4CE5-9784-1765F7CF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59F1D1-67EF-4F94-9443-9FEE65EC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5E4F-B6CA-4B80-8CEF-3389F5CE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98154-A6B6-4728-8524-DC8094D0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E9E05-15DD-4A83-A09E-1162920F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3FF-AA66-42DD-9B87-DA9062BA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32C3F-223D-4739-85C8-2D2EBA3B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3BBB6-7F41-450E-A704-1FA473D2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DEE4A-3FD6-4A56-AF02-E420FE17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92116-2797-4B01-9B1D-CCE9FEB0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94E7-8EF3-43E0-98EA-96B30A13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9CD9F-449A-4C4D-AC4D-90940344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A78B9-4EFD-4FE6-B7B4-A9971E50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8B50A-332D-4344-B500-2A2D3969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1B9A-C4B6-4A16-8E26-CF53F1EB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0DB68-2E30-4216-A4A8-FCD81389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ABE-E8FF-4571-BE14-2AE1BB20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9470E-F80C-44D9-9462-517BC8A0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3BDBC-6132-49D0-9918-9E7C8659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DBE48-0841-4DC4-9F97-EF89683B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3B66C-B677-4A96-92A5-CE291AF0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3FD81-B3E2-4FA3-BD20-B15A9F6A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51601-0A74-4E3E-8D74-79DE2D3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8606B-88BC-47D9-B292-52CCAA5C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4F8B-0400-4716-B6C5-7D5C461C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97558-488C-4A9E-B2D7-67C6070D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2A4BA-C6F1-4416-9D7C-142F0BD2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E3F-9368-4C0E-9611-69B45C2F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909E8-D5FA-436F-ABB8-3DFF3277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C52D-23B6-47E9-BF27-A309664E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33C88-8D35-4ADC-9916-44B63D0A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0806D-8661-4138-A887-E446C3D4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6011E-932A-49B9-B99A-93C3E249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E5783-5F41-4402-86DC-F86A7142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45400-BC45-414B-8322-0DEEA761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4D000-66E3-4E7F-82A9-5C8E1AE7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E1F87-03F7-44E5-A9CB-B3F30FF4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40A62-E489-478D-A977-B6F26084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B4C6-F278-4D03-9982-31D75D9A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701FB-7640-454E-AC19-404264D8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5034D-0042-449D-A455-2C7387C8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79910-5738-42A6-B0B2-3FE8F9A2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20B4B-E029-4630-B308-7C6C70F6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A8CC2-A0B0-4B07-8D08-15CF1F13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E3B8C-6354-47CC-B702-4B92DA21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BEA8A-02AC-46AB-BFAD-640EB9A6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D4736-2E06-42BD-B900-AD1C52C1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2BCD1-FF89-40B4-AF59-CD305409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01BAF-CCEA-43D9-A3F0-A77DD61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772-9743-4EBC-A605-82486EAA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E7209-CE60-494A-BBE1-7C6601D6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FA9B9-88F9-4534-B1FC-A9F3EF87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EDCFD-5B28-4B2F-A910-38ABB504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437BB-2C9F-4C53-B743-B1078E71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3653A-F67F-459D-82BA-1A145B3E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84C31-0F21-4230-8902-E3E675CF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84CA3-FD5E-41FA-AB56-88DEA6E4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4DF7B-D2BC-40B7-BAB9-5AB6391B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6F7E7-982F-4C71-9C77-7AB84CAD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F3009-F7A9-47C0-B91F-9199C697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F30-044C-4E8D-9C88-D613692C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DF696-2E8F-42FD-91A5-9CB06F78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39E5E-8992-479F-B773-E9606C69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6AEF7-B559-42B0-A17B-4A8DC729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56BB7-6231-48E1-A596-AFF62D13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F48F4-DC66-4387-B5A2-065E2011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B6D46-4A22-48E2-80D6-B08F4D94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55098-B426-49D8-B47D-71DE6593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50639-88D2-45CB-B6B6-5E39A3C3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3B066-EE08-48D1-B10A-C984C2A2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C5810-AB97-49C7-A84B-7FEF2128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4C9A-5009-44BB-B6B1-E7B5A6C77FB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D14B-FFEC-4A7D-A0AE-AF6B82CE4F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D708-CEFE-4700-B6BF-7CD059486C8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8B8C-5BAA-4A02-AB22-28E61FAC3FB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6268-9F25-49F3-9E02-A50AFB624FE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AE63-3F21-4339-80D2-FF805F7213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E329-B432-4B24-8C1A-DE5F91C4097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4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7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4EFC-BA27-47B4-BDCA-1478FA466FA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7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6528-380D-47BE-8044-5F82E006AD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8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4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8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5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6B0C-3C7B-4EE4-9184-C7A3F644B5C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8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9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8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116A-8CD5-426D-BB36-A54C57BC3B4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E630-31DB-4EDB-A475-54A8DBF81AD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9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E702-DBCA-48AC-8630-5CD6344194B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9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9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C497-D2EA-4A27-9D03-AE691064B55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8F8D-F3BC-41E5-92C6-29B8A4920CF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9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0F09-4BEE-4E2F-BD01-10451A6ED62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4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354D-8B09-4AEB-A188-708DA22FF1F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9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7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57D4-1DA9-43DB-91C2-84F1E55E2A3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4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2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7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9709-1399-4117-9C26-970C5C948D4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 type="sldNum" idx="8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2CD8-F234-430B-A01B-2E965FAF37B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3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3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3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34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4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E99E-A07D-497F-A988-F98979E7294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8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8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8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39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8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8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806B-A074-4530-8B39-0410DBA0A89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9912-3B4A-443D-AC5B-6D0C697A515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3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3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3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44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4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8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59DA-28F7-4D23-A20E-00770325EC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22AC-E052-4EC4-89C1-7A7160F8BB1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D6A5-B2A8-46C0-A07E-95630F5F97C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CE47-1856-41A8-B413-C9D8F0EAE25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0D78-1ACD-4F05-B591-F616B076A98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72B7-8AB7-4030-9A80-EB5C65F5276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029C-AFC8-43F3-BC93-45CF3327639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animations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5600" spc="-1" strike="noStrike">
                <a:solidFill>
                  <a:srgbClr val="dbf5f9"/>
                </a:solidFill>
                <a:latin typeface="Calibri"/>
              </a:rPr>
              <a:t>4. </a:t>
            </a:r>
            <a:r>
              <a:rPr b="1" lang="sr-CS" sz="4800" spc="-1" strike="noStrike">
                <a:solidFill>
                  <a:srgbClr val="ffffff"/>
                </a:solidFill>
                <a:latin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пликација је савршено регулисана и контролисан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Грешке у спаривању најчешће настају због таутомерних пр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мена азотних база (прелази Н атом са једне на другу позицију унутар молекула базе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  <a:ea typeface="Arial"/>
              </a:rPr>
              <a:t>T = A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енолни облик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  <a:ea typeface="Arial"/>
              </a:rPr>
              <a:t>T-G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репликација: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  <a:ea typeface="Arial"/>
              </a:rPr>
              <a:t>G ≡ 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  <a:ea typeface="Arial"/>
              </a:rPr>
              <a:t>C ≡ G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имино облик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  <a:ea typeface="Arial"/>
              </a:rPr>
              <a:t>C-A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репликација: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  <a:ea typeface="Arial"/>
              </a:rPr>
              <a:t>A = 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Arial"/>
                <a:ea typeface="Arial"/>
              </a:rPr>
              <a:t>Транзициј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- мења се пурин пурином и пиримидин пиримидином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Arial"/>
                <a:ea typeface="Arial"/>
              </a:rPr>
              <a:t>рансверзије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- мења се пурин пиримидином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  <a:ea typeface="Arial"/>
              </a:rPr>
              <a:t>по гену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износи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-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6</a:t>
            </a:r>
            <a:r>
              <a:rPr b="1" lang="en-US" sz="1600" spc="-1" strike="noStrike">
                <a:solidFill>
                  <a:srgbClr val="e2d700"/>
                </a:solidFill>
                <a:latin typeface="Arial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локус/генерацији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  <a:ea typeface="Arial"/>
              </a:rPr>
              <a:t>по нуклеотиду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8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-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9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Text Box 41"/>
          <p:cNvSpPr/>
          <p:nvPr/>
        </p:nvSpPr>
        <p:spPr>
          <a:xfrm>
            <a:off x="1143000" y="1905120"/>
            <a:ext cx="1219320" cy="45972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sr-CS" sz="2400" spc="-1" strike="noStrike">
                <a:solidFill>
                  <a:srgbClr val="ffffff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5" name="Text Box 41"/>
          <p:cNvSpPr/>
          <p:nvPr/>
        </p:nvSpPr>
        <p:spPr>
          <a:xfrm>
            <a:off x="1143000" y="2438280"/>
            <a:ext cx="1219320" cy="45972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</a:t>
            </a:r>
            <a:r>
              <a:rPr b="0" lang="sr-CS" sz="24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6" name="Text Box 46"/>
          <p:cNvSpPr/>
          <p:nvPr/>
        </p:nvSpPr>
        <p:spPr>
          <a:xfrm>
            <a:off x="2514600" y="2286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ТРАНЗИЦИЈ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7" name="Text Box 41"/>
          <p:cNvSpPr/>
          <p:nvPr/>
        </p:nvSpPr>
        <p:spPr>
          <a:xfrm>
            <a:off x="4419720" y="1981080"/>
            <a:ext cx="1371600" cy="45972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sr-C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GC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8" name="Text Box 41"/>
          <p:cNvSpPr/>
          <p:nvPr/>
        </p:nvSpPr>
        <p:spPr>
          <a:xfrm>
            <a:off x="4419720" y="2514600"/>
            <a:ext cx="1371600" cy="45972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CG</a:t>
            </a:r>
            <a:r>
              <a:rPr b="0" lang="sr-C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9" name="Text Box 41"/>
          <p:cNvSpPr/>
          <p:nvPr/>
        </p:nvSpPr>
        <p:spPr>
          <a:xfrm>
            <a:off x="1143000" y="3200400"/>
            <a:ext cx="1219320" cy="45972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sr-CS" sz="2400" spc="-1" strike="noStrike">
                <a:solidFill>
                  <a:srgbClr val="ffffff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0" name="Text Box 41"/>
          <p:cNvSpPr/>
          <p:nvPr/>
        </p:nvSpPr>
        <p:spPr>
          <a:xfrm>
            <a:off x="1143000" y="3733920"/>
            <a:ext cx="1219320" cy="45972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</a:t>
            </a:r>
            <a:r>
              <a:rPr b="0" lang="sr-CS" sz="24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1" name="Text Box 41"/>
          <p:cNvSpPr/>
          <p:nvPr/>
        </p:nvSpPr>
        <p:spPr>
          <a:xfrm>
            <a:off x="4495680" y="3200400"/>
            <a:ext cx="1295640" cy="45972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C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2" name="Text Box 41"/>
          <p:cNvSpPr/>
          <p:nvPr/>
        </p:nvSpPr>
        <p:spPr>
          <a:xfrm>
            <a:off x="4495680" y="3657600"/>
            <a:ext cx="1371600" cy="45972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GG</a:t>
            </a:r>
            <a:r>
              <a:rPr b="0" lang="sr-CS" sz="24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3" name="Text Box 46"/>
          <p:cNvSpPr/>
          <p:nvPr/>
        </p:nvSpPr>
        <p:spPr>
          <a:xfrm>
            <a:off x="2514600" y="3581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ТРАНСВЕРЗИЈ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4" name="Text Box 14"/>
          <p:cNvSpPr/>
          <p:nvPr/>
        </p:nvSpPr>
        <p:spPr>
          <a:xfrm>
            <a:off x="6477120" y="2286000"/>
            <a:ext cx="2133360" cy="45972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-T</a:t>
            </a:r>
            <a:r>
              <a:rPr b="0" lang="hr-HR" sz="2400" spc="-1" strike="noStrike">
                <a:solidFill>
                  <a:srgbClr val="ffc0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G-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5" name="Text Box 14"/>
          <p:cNvSpPr/>
          <p:nvPr/>
        </p:nvSpPr>
        <p:spPr>
          <a:xfrm>
            <a:off x="6400800" y="3581280"/>
            <a:ext cx="2133720" cy="45972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-T</a:t>
            </a:r>
            <a:r>
              <a:rPr b="0" lang="hr-HR" sz="2400" spc="-1" strike="noStrike">
                <a:solidFill>
                  <a:srgbClr val="ffc0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-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6" name="AutoShape 15"/>
          <p:cNvSpPr/>
          <p:nvPr/>
        </p:nvSpPr>
        <p:spPr>
          <a:xfrm>
            <a:off x="7315200" y="2438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7" name="AutoShape 15"/>
          <p:cNvSpPr/>
          <p:nvPr/>
        </p:nvSpPr>
        <p:spPr>
          <a:xfrm>
            <a:off x="7238880" y="3733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highered.mcgraw-hill.com/sites/0072437316/student_view0/chapter14/animations.html#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1066320" y="6854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94360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Picture 4" descr="sf12x1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94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96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98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1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78200" y="1905120"/>
            <a:ext cx="6113520" cy="467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01-18T11:59:35Z</dcterms:modified>
  <cp:revision>103</cp:revision>
  <dc:subject/>
  <dc:title>2-Humani genom</dc:title>
</cp:coreProperties>
</file>